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0AF-542E-41E9-A672-0399F63A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BF5-F583-4D20-816E-1677BF20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E84-7820-411B-8A28-D5DB5292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712-82B1-4BEB-854B-6C0D7D13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B1F-F6FE-4679-A206-C8168EA9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E16-33A4-43FC-A35E-C1C2398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76C-10EC-44E3-83FC-1D29594D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022-5825-4718-B987-458B15D1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07D-372A-49F3-90C8-BE128A35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ED7-BFD1-4D41-B525-D3E71DFD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1CE-067E-4815-9FBF-2435558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133-4412-4B81-A73C-C39AAF7F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5459-3990-4F4F-B9E2-5EFB6F83D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bae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838080"/>
            <a:ext cx="49528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ideo Game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5253120"/>
            <a:ext cx="426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eb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2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990099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Baer"/>
          <p:cNvPicPr/>
          <p:nvPr/>
        </p:nvPicPr>
        <p:blipFill>
          <a:blip r:embed="rId1"/>
          <a:stretch/>
        </p:blipFill>
        <p:spPr>
          <a:xfrm>
            <a:off x="762120" y="914400"/>
            <a:ext cx="5410080" cy="1670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724280"/>
            <a:ext cx="5715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lph Ba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16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ba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alph Ba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ph Baer was born in Germany 3/8/19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er came to  the U.S with his family in 193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Baer’s associates created the “Light-Gu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-Gun allowed players to shoot at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er created a two-play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er was called the “Father of home video games.”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00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Video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games are the most popular form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Brown Box” (Baer’s video game consol) was one of the first cons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arly 1950’s television sets were quickly gaining popu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75 competitive business began like Nintendo, Sony, and Microsof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20:50Z</dcterms:created>
  <dc:creator>install</dc:creator>
  <dc:description/>
  <dc:language>en-US</dc:language>
  <cp:lastModifiedBy>install</cp:lastModifiedBy>
  <dcterms:modified xsi:type="dcterms:W3CDTF">2011-06-01T17:37:06Z</dcterms:modified>
  <cp:revision>7</cp:revision>
  <dc:subject/>
  <dc:title>Slide 1</dc:title>
</cp:coreProperties>
</file>